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56558"/>
        <c:axId val="51633321"/>
      </c:barChart>
      <c:catAx>
        <c:axId val="40056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33321"/>
        <c:crosses val="autoZero"/>
        <c:auto val="1"/>
        <c:lblAlgn val="ctr"/>
        <c:lblOffset val="100"/>
        <c:noMultiLvlLbl val="0"/>
      </c:catAx>
      <c:valAx>
        <c:axId val="51633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56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0FA-2E35-48E2-9C70-CD57AA0A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940-033B-4683-A505-F8538658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D03-4326-46C4-8ABC-484F490A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DD5-A649-42C8-AA81-5E10F03A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3B9-8D95-4543-A4E4-D431F1AE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2CE-B87F-4C30-B2B3-0D16816D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84E-9FCF-4C53-9C00-5DC27781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DC3-03B3-4E52-BCC0-02F43E57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C2E-385B-44CF-A615-C4A0A459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AE2-3479-47F5-8D44-CF92D98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9EE-E424-411F-8A1A-48CF1CDC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8F7-C8B7-444C-AF51-7AC0318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B9A6D-5C77-4881-B317-0EF601099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