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38456"/>
        <c:axId val="20925888"/>
      </c:barChart>
      <c:catAx>
        <c:axId val="58338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25888"/>
        <c:crosses val="autoZero"/>
        <c:auto val="1"/>
        <c:lblAlgn val="ctr"/>
        <c:lblOffset val="100"/>
        <c:noMultiLvlLbl val="0"/>
      </c:catAx>
      <c:valAx>
        <c:axId val="209258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38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330-CE16-4128-8616-8F68564B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28B2-E169-4EDA-BC7E-D97812B5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7AE-56DF-48F4-9E28-EC058C57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C99-92CD-4E92-833E-EF92DC6B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CFA-0624-438C-8AF8-564B25FF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F87-F964-4BAC-BED9-6A218FEA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940-E101-4819-9932-F3E4084F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19F-2051-4B4A-8027-D87E6CEB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DE5-A490-454F-8DE1-EDAA569F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0C89-896E-478C-986D-6B4B278F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55A9-5D99-4F2C-8367-B8D9718B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0A3-1377-422D-8668-CDD24CC7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7970A-F96F-42FA-AA06-BD139AF005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