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693-57DB-41A1-A7F6-4B22A3A0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D77-9862-4947-831B-E360592E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B7850-2C23-4503-98AC-84375BF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56306-5E5E-40EF-9A66-2DEF4B0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6BE72-1724-4C1D-B5E3-13F9C76A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401D8-DA5D-46D3-9309-D9F3D45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1E1EE-DBDB-4EB6-B95A-A6A0538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A0E30-E010-4725-AD9C-70327D6A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C9260-9295-4D08-8175-4F3D1973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F1A2F-86B7-4F36-AE59-02A844E2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99A36-D554-4B68-B696-B122FEAF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9A9147-6788-4F19-BB20-6BA0E148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5DD-8E85-47C8-8D7F-A6C70278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DECE91-CDC1-47BC-B47D-BF4CC97C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4A128A-7BAB-450B-BF14-54BB414F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81214C-3CC2-4878-9528-4EC192E9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0AC624-107B-4402-BEDC-206A141E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02DA0F-D219-473D-8A48-1118CE5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42FD27-0CCC-4CCE-805E-B06D5F29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77D654-D271-4C6F-B7B7-7016A3AA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DCB80A-A832-404B-A09D-EBAEBECD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5AD3B9-2C25-424B-BE46-616B50F4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A0A273-63B8-4B94-9E58-234080EC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01A-A29B-4306-B3CC-DD588975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994D6D-42B7-44DA-B336-A22F9068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1794D-BD20-4619-BFF7-0F5625F9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8D8E5-DFB5-440A-AF3E-ECDD0145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D1287-6D42-4FA2-A124-B444BA74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C7874-5BB8-42E7-BDE5-46DF239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13E28-94AD-4F5B-B9AB-2D4121E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82417-6B9F-422A-B2F4-DE3921C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7D548-DCFC-498B-A879-5D9181F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3350E-2AC2-4F2F-8CC5-9EB5E75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B3379-4C35-4893-8926-E205BC9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B5E2-F653-4B0B-BEDB-14CDCBFE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AFABD-047F-44A1-A567-0A048643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F9A12-FF8F-45C8-B3EF-72F36FC1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75C5C-DA27-4CA6-9ADF-E25BA9A8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3816C-A20D-49DB-B724-F36ACE63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88257-8622-44E6-A8B1-B384814D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1F912-B381-418C-BA81-A0965EF7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180C3-E137-4050-BFBA-39D7C8F0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43697-613F-4EDA-AF39-5AFA7F34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E688F-5359-4C8E-8EA6-134A9626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11369-6750-4E58-8249-C7B4A5B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6F7-59AC-4F1A-B9ED-C8FAC3BF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26806-7FD0-410B-A3B4-3EBCC06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4DCDB-230E-4121-B804-1C39AEB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9D7D0-E5E4-4D9D-98C8-7592252F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8A361-36D4-4A5C-A069-6B3A64C7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A2671-EAF3-4F54-990A-21C90FC5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F054-BB44-4A43-8343-7F43D481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0CCE-08EA-4883-91AF-7DF0C7CB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7D44-AE84-4DCF-B707-5F145843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40BD-281C-41F2-ACB6-334F3C27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56FB-CAE6-4253-B23E-86E02EC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9D6-3281-440F-AC12-64F20D94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E98A-8A56-464C-A1E9-1B190CB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7037-F4A0-448B-A5FB-23331E2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DFF9-55A1-40E3-A641-F746D9F3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BE9C-80B3-408A-B612-5F30914D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BDB1-6589-48B1-BEE5-C79BDD3F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04DF-4948-4BD8-AB46-38266FF5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0360-6728-4F2A-96CF-A346A87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F7FD-5A15-4154-947A-3A899C73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9657-9C58-4799-9E0E-9E150F1A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010C-9C96-45D9-9D43-826F3540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C6C-1723-41D6-A430-959BC037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B367-F1A3-412E-977D-89DAEAC1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8B42-D5A3-437D-9D82-8B6E2D34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9C66-ADDF-4124-8667-DAC580E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0704-D0F4-41C2-8D77-09B793FB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E67A-7916-4731-89BB-D0650EFC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05A6-19B8-4E4D-A216-5F905A94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BF77-1C1F-42C4-8D8C-D382CC02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8090-9F78-46FA-A237-ADDDF9A3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AD9B-2BDF-41D5-81DB-D26C8ED8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DF75-B972-44A0-91F4-518483C8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871-652E-4A17-98DC-AD02C21F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9FB3-AB19-4162-AE6E-D8467980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CD34-D874-4617-B13B-9F08F318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B8E9-3503-484A-8BD1-C335059F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E35D3-F020-46DC-A52C-1EEC7496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BC5C6-1B58-43F1-8A37-2FA636B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CFE6-44D4-4766-94D6-E445921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9638-9BE7-45AA-9CB4-25B3FA41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DFD2-B834-4787-8478-7FF2E16F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AC79-A700-4BFD-A514-C128FD41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89446-B034-48E3-AD08-9C852FD8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985-34CA-431B-953D-69BDF29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0F6E9-29F1-4279-BEFB-F9446234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5CB10-9D4C-43F2-BCCC-3C0A02B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27BF8-B7F0-4F4A-A2AC-36103809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57425-0F15-4B30-9C79-5B73B521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C44E4-A5E1-45B3-AB91-8F3EDE2F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1AFF1-E323-48BF-9C67-2E80A90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19791-9F1F-451E-834B-4AC4212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4E71F-BCBB-47C8-8EA1-B570B89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9F0AB-3CE1-4AA2-BBF7-7CF03E8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67528-6E8C-4564-812C-21D403FC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80B-C576-4D7D-AC28-5AF7AAC8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C3FDC-9017-4402-8490-46B56D42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B4C55-226C-4509-B4BA-EAD0E408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7CD5-A250-4AAF-B41B-99682871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43AD-57D6-4FDD-BAB3-9411831C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1DD69-AFDD-47A7-8070-305B76A7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9B892-3FCA-4C07-984C-12403E5A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EBAF-F606-4656-BE01-8C4BA46D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42E5-8A2E-411D-907C-3304BF9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CF65-732C-41A7-9780-E386EC0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37B65-81FE-4FC7-8843-FAA7F0E3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7C4-848A-49D1-B352-04E0A2F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76D1B-EEB3-4BC2-AD0A-252ED1D4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B6E87-D244-4585-8D78-89BBEE9F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B7B2E-D67B-4A18-9A39-CBDEF223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4C6E2-75C9-42BB-93DE-7AC7B860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17FC-E67C-45B1-BB07-A12E5FA6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3B5D9-88DA-4668-957A-28DC53AE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F294-30F9-4213-B4F6-66E9FB7A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1899-AFD1-4020-A08A-FF795D3A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C5F6-0017-4D1F-82E4-527B966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61667-F944-4D35-80EB-E1FEB915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4BC-BA71-431B-A9D2-A5225837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76AD7-95A4-4F7A-AC5C-5576A2BF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B2CCC-A8C1-48AB-9BCB-85156026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DF43-0B49-4D1B-86ED-DA60FFF5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2E35A-0CAB-4F35-846A-04758915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96F4-08EF-49F3-B2B5-2A378A2A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55AEE-24A6-46E6-B6EF-17B00FF3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B01CE-BAA5-472F-9E1C-FDABC35F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B6C9-95B7-4F26-A0C8-A28F686C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1FD7-61B9-40CB-B2C2-BFD11124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6CBAC-ED73-4064-873C-30F88A1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526-F391-4938-AC38-8ECCD2E8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0875B-C752-4339-B5A4-3C5667CC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CDDA7-CA3D-499F-A777-19F1EC9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0A17B-68F7-48BC-83B0-DBBA6AF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045A-C3E7-41DD-B17A-B569416A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443A3-3DE3-4F3F-B0DD-A552CF81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C8533-7BB4-4CC0-A115-522F1AC4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49940-4931-42FB-B614-EB6409F0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9BC8E-88BF-4850-9210-5B922D75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3930A-7AE8-491E-ABC5-1D50F070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DEB21-89C3-4021-9764-41674E92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BADF-0F2A-4090-9733-F7D282384D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D8CF-5C2F-4662-BB5F-DBC4B16875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8002-97BB-4938-9518-458A384857E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9F4-979E-4A82-81EC-AF6AA376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BE7-2DAE-4125-AD3D-B432377A2C4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C3F7-3AB2-456A-912E-6B4866BF69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767-851F-49C3-B06E-624C94203AE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72E-CEC7-4E64-9B70-DBF9AF2E49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56C6-00B6-484D-8EE0-23676CCD3B8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AF4B-9C23-4E60-B2B5-81E35FBB10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BCE-5D1B-4E6F-8DF1-558F1D32B4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71BC-DD8D-4BA9-BDA9-0D2AC488D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D1B-9823-47DE-A47A-9324910787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4DB-7A90-41FB-9462-7F6908FB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A68B-A764-4862-B135-DB726698C9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64F0-C480-46BE-9559-4AE1EA4F0E0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D4B5-9F51-41C3-8B00-6E5B4639E95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7EE5-4F19-4B48-9087-7D3239F2BA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5F00-11DF-462F-9F8A-B4469B591A4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EB2E-D529-4D20-95BA-9DC7D66F7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72B4-8D25-46F6-A418-8FD1ACA373E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3531-E6CE-462D-94F4-9EC5DBFC13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3F4E-F83B-4A6A-9955-B69C303C48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39EC-B8FA-4E00-BAD3-6E117C21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6FB-E219-4F29-B924-D39835996F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33BC6-73D2-4A89-8FD3-7B6C1A4F274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01FA-719E-40E7-BBDC-A344C81211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91A4E96-F468-442B-A442-59E89C1143D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9CF1-2770-4B07-9B17-F91A696A92AA}" type="slidenum">
              <a:t>3</a:t>
            </a:fld>
          </a:p>
        </p:txBody>
      </p:sp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DBFAA-2C94-4086-B9F6-43083A2480E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776A604-C237-4019-8656-F2010D2023DA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957BF-E95F-4C63-8B7D-A7C2538FAA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37449AA-89BD-4C5F-894C-65803D0E9DBC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399D6-316D-462D-ACC9-4B49409100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265039E-4D17-4D5A-8EEE-279942516CAC}" type="datetime1">
              <a:rPr lang="en-US"/>
              <a:t>07/30/26</a:t>
            </a:fld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