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896248"/>
        <c:axId val="86823008"/>
      </c:barChart>
      <c:catAx>
        <c:axId val="558962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823008"/>
        <c:crosses val="autoZero"/>
        <c:auto val="1"/>
        <c:lblAlgn val="ctr"/>
        <c:lblOffset val="100"/>
        <c:noMultiLvlLbl val="0"/>
      </c:catAx>
      <c:valAx>
        <c:axId val="868230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8962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AFF9-564F-4CD4-8B34-68E7122A1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7A8F-452A-4062-BA9C-2632F2A24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3DCE-E8A1-4FC9-8DBB-D6455124D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42A2-C23C-40E0-8F18-E3DE2B150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5515-CE29-4AF2-A579-B72CD5D0E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D1E8-258A-40B5-AD97-AFC58015C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32B1-0D63-4336-8AF8-1506D5ED1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C72D-675F-444E-A08C-9E66C57C8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C723-D020-484F-A65B-53A36F8E5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4056-EA46-41E2-8499-26D2430F1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7E5A-31A1-466B-8065-007CA365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C0C7-FB7C-40CE-885D-636C2BA16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AC8240-BC6B-4C07-AEEF-F721EA4EFA1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