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05294"/>
        <c:axId val="66448444"/>
      </c:barChart>
      <c:catAx>
        <c:axId val="71505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48444"/>
        <c:crosses val="autoZero"/>
        <c:auto val="1"/>
        <c:lblAlgn val="ctr"/>
        <c:lblOffset val="100"/>
        <c:noMultiLvlLbl val="0"/>
      </c:catAx>
      <c:valAx>
        <c:axId val="664484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05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9B2-6E32-4413-9CE5-70D44925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CCF-BF28-413D-9297-E11DAAF5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991-51A1-44D5-AEFC-21B7B671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D90-35DD-490E-81BB-F5BE07D6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482-023D-46E7-94BE-47BA6DCD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AF6-8C88-460B-9B89-F49B7F54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096-1A6A-4AD6-8D82-B7B55F56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329-A172-494F-8B73-7BB7C32C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D14-A98E-4AFB-81EA-7887B72B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00A-3698-4AE7-8FEA-5A73A24E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F14-CEFD-4547-B11A-EB98CED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1C1-72CB-4DD2-82F5-6666C74E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ECAE7-287E-4482-846F-FA62580809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