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6117702"/>
        <c:axId val="96690499"/>
      </c:barChart>
      <c:catAx>
        <c:axId val="5611770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690499"/>
        <c:crosses val="autoZero"/>
        <c:auto val="1"/>
        <c:lblAlgn val="ctr"/>
        <c:lblOffset val="100"/>
        <c:noMultiLvlLbl val="0"/>
      </c:catAx>
      <c:valAx>
        <c:axId val="9669049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11770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EC80E-A32B-4D21-9A3F-BDB8D71E5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14EDD-E7E3-4684-A439-4E990FA8A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73596-83D5-4620-9984-C6A7FC6F0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BC1C7-0B8A-452A-B4BC-2B878EBBD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F61EC-0446-4616-A4D4-8019766A1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E7CEA-A958-4486-92C5-EBCBA455E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F5B37-3B95-4E45-8A4A-355DCE765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6E195-1CBD-4AD0-BAE1-5B1430F5A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9B89D-D18F-4364-AA47-668CC93C9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41D57-2F8C-4125-956B-17F672A3F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FCD85-D57D-444B-A851-68FD75F0F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DE4C9-BCA8-4895-8D29-DEFFA8EE7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E8BB6A-FCBA-4588-A52D-11FA9E08EEF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