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18134"/>
        <c:axId val="78691637"/>
      </c:barChart>
      <c:catAx>
        <c:axId val="99418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1637"/>
        <c:crosses val="autoZero"/>
        <c:auto val="1"/>
        <c:lblAlgn val="ctr"/>
        <c:lblOffset val="100"/>
        <c:noMultiLvlLbl val="0"/>
      </c:catAx>
      <c:valAx>
        <c:axId val="78691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18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3BC-7470-46DE-87E6-619C3965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CEB-8E52-4EF7-9A04-82C7017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B7-21F1-48CF-869A-5F6A930C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C6B-5784-4BDC-8B02-3DF3E496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945-39C6-4DA3-95C7-F1C610D6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B6A-DFEC-4CE0-BC74-02EEEBE0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B86-BB6D-4138-84A2-88CEA3E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0FF-74E1-449A-B5E1-4967F37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3DA-96F9-4BC2-A952-33DA5628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CB6-EC05-4F27-B5B9-2E5BC99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F0B-5158-4608-B1F7-675728D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C85-53A4-49F3-8DB1-0C417A4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DE7C2-37B4-482B-B77F-7E826DA1D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