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98693"/>
        <c:axId val="94498756"/>
      </c:barChart>
      <c:catAx>
        <c:axId val="42698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98756"/>
        <c:crosses val="autoZero"/>
        <c:auto val="1"/>
        <c:lblAlgn val="ctr"/>
        <c:lblOffset val="100"/>
        <c:noMultiLvlLbl val="0"/>
      </c:catAx>
      <c:valAx>
        <c:axId val="94498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98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528-E365-4D82-8931-39FE824B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106-57EE-4551-A548-9AE9A1AF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A85B-D688-449C-8DF2-3C9B985A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229-E6E0-49F0-B6D7-6069C19C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6D9-2515-4C33-933B-A9CA6FA2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22C-4668-4F33-B840-4C9A1EEA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EA8D-9935-4D91-A1DB-444AA5B0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9EF-9562-4919-8254-6CD6C47D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8AA-8788-4D53-B19D-42295C04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746-12CF-4B1E-B3F0-A321DC4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19F-9D07-4137-8A80-F4754F2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D82-A83E-4051-9533-829C9088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69671-2560-4248-8C97-1DEE214A51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