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97132"/>
        <c:axId val="67568085"/>
      </c:barChart>
      <c:catAx>
        <c:axId val="86597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8085"/>
        <c:crosses val="autoZero"/>
        <c:auto val="1"/>
        <c:lblAlgn val="ctr"/>
        <c:lblOffset val="100"/>
        <c:noMultiLvlLbl val="0"/>
      </c:catAx>
      <c:valAx>
        <c:axId val="67568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97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416-CE3B-4155-87E9-B9DB9713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B1A-8CF6-4C8A-AE46-7928317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325-3BEC-4A92-BF0C-9E352992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AB8-339F-4118-900B-92557351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03F-3AE4-4CE4-BC4D-C0E6C55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A2D-E517-4921-AC22-6FC60316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2C8-4428-4CEB-A181-6821032D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B5E-894A-40FB-94B1-0E10844E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3E9-2809-4EDE-BB7B-EB00C12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5E0-9081-4E74-8A40-40B7AB4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676-0927-481B-A726-6C8022A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71D-ED13-490F-A7B4-715F6CD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CE1D5-D1FB-48B0-95D5-00AA0FFFEC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