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56244"/>
        <c:axId val="14814365"/>
      </c:barChart>
      <c:catAx>
        <c:axId val="824562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14365"/>
        <c:crosses val="autoZero"/>
        <c:auto val="1"/>
        <c:lblAlgn val="ctr"/>
        <c:lblOffset val="100"/>
        <c:noMultiLvlLbl val="0"/>
      </c:catAx>
      <c:valAx>
        <c:axId val="148143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562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A3A-27D1-453C-B05D-A835B52C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F4B-A914-4CA0-80E9-F9F828CA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900-2C5C-4E23-A29B-C8399723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E9D-B9EA-4BDF-BD7F-FFAF7967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1B3-6F14-4E02-B0BA-626E2F4A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398-DAED-4006-949E-F9166EB7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227-FD64-419A-B92A-90C23D37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D15-0697-4231-952E-7F23E2B5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F76F-2DB9-4AD9-9ADC-C4562E3B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DED-0B75-4402-A6C7-CDF98FE0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1EC-25F5-4B4E-BBA0-EEEB16BF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6B7-6F30-4CA1-A620-BC15A595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D9A61-2229-4BC7-A258-28F9A92E21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