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47075"/>
        <c:axId val="19654162"/>
      </c:barChart>
      <c:catAx>
        <c:axId val="54947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54162"/>
        <c:crosses val="autoZero"/>
        <c:auto val="1"/>
        <c:lblAlgn val="ctr"/>
        <c:lblOffset val="100"/>
        <c:noMultiLvlLbl val="0"/>
      </c:catAx>
      <c:valAx>
        <c:axId val="19654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47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783-BABF-4B6A-85CD-32E54751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E98-F0DD-4A2D-B0D3-0849A867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DF7-CC65-482B-ACC1-FE54DC44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6E6-EDDC-4838-AF1B-8D1DEBE3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DB9-B940-454A-9461-137DBB8F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87C-7E10-43AF-8EE4-391AE78E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FF1-DB13-4411-AC9B-C02B847C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359-3D04-41FF-840D-3B6BFBAA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510-8C0D-484B-A480-0F782270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DE1-9F94-4A1F-9D21-B8127295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898-5E9A-47C6-9933-0E766216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8FB-5AEC-4B0F-B89B-86DCECA8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FD5F5-68FF-4CA9-9BF2-E47F982514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