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81328"/>
        <c:axId val="55084374"/>
      </c:barChart>
      <c:catAx>
        <c:axId val="4678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4374"/>
        <c:crosses val="autoZero"/>
        <c:auto val="1"/>
        <c:lblAlgn val="ctr"/>
        <c:lblOffset val="100"/>
        <c:noMultiLvlLbl val="0"/>
      </c:catAx>
      <c:valAx>
        <c:axId val="55084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8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C17-9E6A-4F71-A519-43C6235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2F2-2D28-4F33-81E0-DAFD522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176-01C5-4FC7-8275-EDD95F68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5F2-8058-4FCF-990C-D384F376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640-B903-4CE4-B98E-85248C1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EEF-B346-41F6-B05F-CE6D1CE7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8D1-C67D-483C-9ED2-8A27324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888-104B-4410-B185-EEE974E6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252-29AE-46E6-B628-6EF5D13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6F2-CDD1-45E0-8C5D-D7455867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B24-E2C4-43F6-8BE5-4A67237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667-55CC-4C89-8734-7999076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AE918-CBDD-46D4-A201-D06252F973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