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061733"/>
        <c:axId val="31071296"/>
      </c:barChart>
      <c:catAx>
        <c:axId val="130617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71296"/>
        <c:crosses val="autoZero"/>
        <c:auto val="1"/>
        <c:lblAlgn val="ctr"/>
        <c:lblOffset val="100"/>
        <c:noMultiLvlLbl val="0"/>
      </c:catAx>
      <c:valAx>
        <c:axId val="310712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0617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CF72-3812-4FD2-AA59-AB4EC02E1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F28B-3DD7-4BD8-82B0-AC625059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78A7-9D31-46FC-907F-35239BD29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0CF2-F61A-42DB-8954-73EF5D95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68FA-BA76-4604-9D29-CED127EF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7937-B0B3-4871-B12C-405885947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CD6D-52FC-4B67-9027-99D313F0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0286-301E-4123-AE24-B92CA4B0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8FD7-43B5-4C69-BC69-E5E0C416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0B43-D4AB-43B3-BBC0-932FCD18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F988-7B91-4216-958D-429EA709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7C1F-72E1-4E81-AC02-2FFE159A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B9CFEF-D1D5-4ADF-BC16-301191FD1F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