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96540"/>
        <c:axId val="70493629"/>
      </c:barChart>
      <c:catAx>
        <c:axId val="523965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93629"/>
        <c:crosses val="autoZero"/>
        <c:auto val="1"/>
        <c:lblAlgn val="ctr"/>
        <c:lblOffset val="100"/>
        <c:noMultiLvlLbl val="0"/>
      </c:catAx>
      <c:valAx>
        <c:axId val="704936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965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8860-90F5-43B3-AA97-15B2E27E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76B-ECC8-408A-A3F8-C6D9A677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7F2-6792-4657-AC04-DB47E768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7004-8F32-4F7C-8E6C-C6825E50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33B4-E54F-46BF-A5B2-C6F58EE9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0BDC-01C0-40BE-A524-3DEDB7BD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47D-A9F3-4383-A5D4-5C18802B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006-3613-4876-A924-D9F39BC7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3EBF-0C32-4568-83A7-4991D694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7ED5-42E6-4C41-AF83-7A2853FE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09D9-B7D2-45DE-9192-1F0B5D50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CAFA-5290-44B5-8BE4-991B26C2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ADA39-5B08-4819-ABC8-587600C4B2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