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32452"/>
        <c:axId val="75555673"/>
      </c:barChart>
      <c:catAx>
        <c:axId val="23432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55673"/>
        <c:crosses val="autoZero"/>
        <c:auto val="1"/>
        <c:lblAlgn val="ctr"/>
        <c:lblOffset val="100"/>
        <c:noMultiLvlLbl val="0"/>
      </c:catAx>
      <c:valAx>
        <c:axId val="75555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2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DB4-14F9-459D-ACCC-A028EE82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B74-7994-48D6-A825-EA96E07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F36-0F48-4E4D-8DC4-C5AE1644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784-5377-467E-BF19-FA38C0CF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908-9994-42EA-A972-F79FCFD1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E21-2CF2-405F-AD8F-7093DC0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087-D662-44FE-968C-9C8B02C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FDD-43DD-41E5-9B5C-D284557D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879-99FC-4D74-A7A7-D18F1D5E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597-7BE6-4123-B7C3-557EFFD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E85-0356-44D5-8DC1-67E1BE9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082-21F7-4A37-A027-A7560DA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9936-354D-4A33-ACC3-A61807C41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