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39579"/>
        <c:axId val="75997801"/>
      </c:barChart>
      <c:catAx>
        <c:axId val="89939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97801"/>
        <c:crosses val="autoZero"/>
        <c:auto val="1"/>
        <c:lblAlgn val="ctr"/>
        <c:lblOffset val="100"/>
        <c:noMultiLvlLbl val="0"/>
      </c:catAx>
      <c:valAx>
        <c:axId val="75997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39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77E-564F-4178-8DC9-EC57FD26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9F4-3A4D-40B2-B4ED-2603C5C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210-AE5E-478D-9C23-71971574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48E-EA66-4E3C-9210-53F7A252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EB7-14E2-4C1B-AEBF-780CB6E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7C4-F9A4-4A03-84DA-6687303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13F-D325-4DF1-A327-1013CC82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E48-557E-4CDA-BD96-A53CBCF6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8B5-31C7-49DB-859D-042E9AB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CDB-F7C0-4BC9-929B-D817E64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ACF-CEB9-47E9-958E-CAC4540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E97-1A42-468C-B168-FBF92B3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36C70-0395-43D6-B68A-B5703F50B4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