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969302"/>
        <c:axId val="1851337"/>
      </c:barChart>
      <c:catAx>
        <c:axId val="77969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1337"/>
        <c:crosses val="autoZero"/>
        <c:auto val="1"/>
        <c:lblAlgn val="ctr"/>
        <c:lblOffset val="100"/>
        <c:noMultiLvlLbl val="0"/>
      </c:catAx>
      <c:valAx>
        <c:axId val="1851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69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D72-B48E-4E3C-BA5C-8AC733B1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EB9C-C67C-4F06-8A4A-43395C8A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5413-ED47-4CF8-A278-B9CB4886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D5E-8BB3-4AEB-A41B-52B217F1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57F-6421-41CE-B3B2-8EEEFC65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AFE7-66BF-4360-B35D-FBA48293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F494-5CCD-4DAE-9167-6CF50BA7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56B8-8BB8-4235-BBD1-4E650473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DCF1-472C-4884-9AA6-54125051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90F6-59E2-4A47-80DF-DD456A2B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48C-7F4B-4082-BC99-E1445504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107A-551B-499E-A43A-3F736624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FFE3D-60BF-4F1E-BDED-4D29D9EA1E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