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00470"/>
        <c:axId val="53893638"/>
      </c:barChart>
      <c:catAx>
        <c:axId val="83900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93638"/>
        <c:crosses val="autoZero"/>
        <c:auto val="1"/>
        <c:lblAlgn val="ctr"/>
        <c:lblOffset val="100"/>
        <c:noMultiLvlLbl val="0"/>
      </c:catAx>
      <c:valAx>
        <c:axId val="53893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0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E13-35F4-4386-8D52-D110A251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8C5-0C9A-4B67-B25F-43A1484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C6F-6817-4C34-BB10-DCEF01BC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026-B315-409E-9AB8-4AC7BAAF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26D-04C0-4241-B2DB-619712B9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013-AE9B-4E9E-A8AE-6B275DE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A4C-CA04-457D-B896-DC2511A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D1D-4386-40D1-AAB1-BF8E291D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989-CC3C-48D0-A02F-815CE251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008-C390-4AA2-A147-FDC8245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E81-7A84-467A-9780-D3D24D3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2F8-A06D-4D86-A479-BB9B674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49FDA-C779-48DD-9D67-EA72E57538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