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76755"/>
        <c:axId val="18539297"/>
      </c:barChart>
      <c:catAx>
        <c:axId val="657767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9297"/>
        <c:crosses val="autoZero"/>
        <c:auto val="1"/>
        <c:lblAlgn val="ctr"/>
        <c:lblOffset val="100"/>
        <c:noMultiLvlLbl val="0"/>
      </c:catAx>
      <c:valAx>
        <c:axId val="18539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767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5BC-0C86-4096-9BFA-04C3298C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66F-B082-43EF-B564-E02B2C7E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1B6-B799-4480-932F-E2784C20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2F2-D1D9-47CD-98DB-EAF2BED2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CAE-9A6D-417D-8938-56C0F7B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2F8-493A-4126-91C9-8697275C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3B0-942B-428F-BCC7-FF37D24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7A6-3743-4AB3-84E6-634565E7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B5B-B7D1-4870-845C-7CEE94D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EA4-378D-40D4-89F1-6F8BD00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6B4-ED11-4285-8AF1-104ECF7D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27A-36D4-4182-9EB7-4246DB88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67806-D645-4F38-A399-8CD7059523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