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50258"/>
        <c:axId val="28211986"/>
      </c:barChart>
      <c:catAx>
        <c:axId val="37850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11986"/>
        <c:crosses val="autoZero"/>
        <c:auto val="1"/>
        <c:lblAlgn val="ctr"/>
        <c:lblOffset val="100"/>
        <c:noMultiLvlLbl val="0"/>
      </c:catAx>
      <c:valAx>
        <c:axId val="28211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50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4BD-2648-4A45-875F-CF356993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0AF-8629-4D4E-B9DD-60894D66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0A6-6FDC-4845-B7B6-F5868A64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322-1067-4996-A56E-2E0958EB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EDF-3128-47E4-B5E1-77F5CD9A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C50-C504-4D70-80A9-D055A8BE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BAE-59F4-4CE9-A4C5-4E1D9C12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ECD-271B-4EEE-BA7C-E8B0537E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713-553B-4D42-8FF1-C18F2215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04C-A11A-41B8-A22D-D2512320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537-082B-4EE8-ADD7-F4444555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190-4EB6-4006-80DC-7D79280E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6AEF1-816F-4A44-B701-10E3853F3D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